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D376F-BA3B-4092-A0CB-F3611CC6D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FC4EA-94CA-48AF-8E26-BFFC487061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897DF-6492-4A59-9A8A-C0C15508C9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873A-27B6-4657-A087-72392039DC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0DC5129B-F06B-4D5C-9311-C953E6E479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B893C428-6C7C-4F08-AE31-F6DC7B6D27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fld id="{61A1B85F-B654-4159-AED5-AE4FCB8330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ate Placeholder 1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D80-FABC-4BA7-AA65-42F14F93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1AB-D7A0-4DE0-9D25-41E2F6A6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C49-9D0D-4AD0-8DCB-05B8ABEB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5B6-1D25-4974-8690-67B54FBA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0EC-C7A6-4FCD-9CBA-D9A3C937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D936-2BCA-4767-98FE-C8BA843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9F2-000E-43F8-B5F2-BC3D417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67E9-8C1E-4AF1-89D3-D06C4BCC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756A-1262-4295-85AB-F4D5137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1528-EC2E-46D9-A491-42DBA16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561-47B7-4B54-8773-6CFF3C9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875-63ED-48FE-8647-B9A05B7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6206-260E-4C71-9658-791A6F7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30D-3DBF-4268-9146-6FBCE2F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8CCA-0A34-4CB5-8B62-A01625A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AC3F-69EA-491E-A671-2C271253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1794-51BF-413B-85C4-DE372B4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0173-E7BF-4D41-A1EE-D88E23D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0C7B-9F46-4BEC-9FE6-A8B1C4F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6768-8E9F-486C-8787-155888A8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E429-06FD-4D5F-BC25-1F003C4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256C-5042-41B5-BF35-0ED30DE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11-C222-46D3-A35C-D510E3D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4599-08AB-4B16-98A5-75D4B4F2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A006-1B9E-4D64-9AE3-F84FC6D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F452-75A4-475E-857B-6EA1B83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8816-8189-4B0D-9D6E-CBA59C6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7C48-2251-4DAC-A5A1-03D5AA9F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7CB8-2123-492B-AE2D-837B165B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44C2-D70D-4273-B0FB-39B893D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79F4-EA11-454D-BECC-B45BEBBF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B881-F51F-458A-A368-E79A103D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8B07-B315-4103-A291-55D7DB3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810-4EF1-478C-B6A6-6F02830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BA27-CE8C-4D4F-9BCD-4C1A2F62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535F-4E78-471A-83DC-FF523E5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E06F-E1ED-452B-B1EB-9FDFCCE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F9BB-9772-48F9-9CDF-5EC99D3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67B1-5185-431F-A576-2FBB9C3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661A-B085-409E-B9C8-10C25B1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665E-D465-43A0-8AB0-44FCF617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64CD-2748-40BF-AF69-1688A48D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303C-53E5-483C-A8AC-0295D1D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AE9-2ABC-4B10-99A8-F87331D4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274-CD56-433C-81F2-A454A089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9F4-14BB-4C40-A5C6-846F944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C59-9BF6-445E-AD92-8F4025F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4C-45C0-4605-B1C2-5DE7779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© Piyush Gupta, NI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177-D1E5-4CDE-B473-B6B08E5FCE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© Piyush Gupta, NI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B09-5D54-4630-A9F4-7AB1BBF51D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F34C-E2DD-491F-BCDE-1C157AC487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25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8" descr="DSC01994"/>
          <p:cNvPicPr/>
          <p:nvPr/>
        </p:nvPicPr>
        <p:blipFill>
          <a:blip r:embed="rId1"/>
          <a:stretch/>
        </p:blipFill>
        <p:spPr>
          <a:xfrm>
            <a:off x="609480" y="328608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3040" y="190476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Challenges  &amp; Key Success Factors for e-Gov Projects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By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Dr. Ashwini Kumar Sharma,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MD, NIELIT</a:t>
            </a:r>
            <a:br>
              <a:rPr sz="3000"/>
            </a:br>
            <a:br>
              <a:rPr sz="30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19DA-B548-47E9-81A5-DF2D7735423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124_Photo1"/>
          <p:cNvPicPr/>
          <p:nvPr/>
        </p:nvPicPr>
        <p:blipFill>
          <a:blip r:embed="rId2"/>
          <a:stretch/>
        </p:blipFill>
        <p:spPr>
          <a:xfrm>
            <a:off x="152280" y="5133960"/>
            <a:ext cx="2133720" cy="1374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DSC01316"/>
          <p:cNvPicPr/>
          <p:nvPr/>
        </p:nvPicPr>
        <p:blipFill>
          <a:blip r:embed="rId3"/>
          <a:stretch/>
        </p:blipFill>
        <p:spPr>
          <a:xfrm>
            <a:off x="533520" y="167652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Garamond"/>
              </a:rPr>
              <a:t>4 Questions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to be addressed for eGov Project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511560" y="1143000"/>
            <a:ext cx="7815960" cy="703440"/>
            <a:chOff x="511560" y="1143000"/>
            <a:chExt cx="7815960" cy="703440"/>
          </a:xfrm>
        </p:grpSpPr>
        <p:sp>
          <p:nvSpPr>
            <p:cNvPr id="310" name="Text Box 4"/>
            <p:cNvSpPr/>
            <p:nvPr/>
          </p:nvSpPr>
          <p:spPr>
            <a:xfrm>
              <a:off x="2955960" y="1200240"/>
              <a:ext cx="53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HAT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do we want to </a:t>
              </a:r>
              <a:r>
                <a:rPr b="0" i="1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Achieve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5"/>
            <p:cNvGrpSpPr/>
            <p:nvPr/>
          </p:nvGrpSpPr>
          <p:grpSpPr>
            <a:xfrm>
              <a:off x="511560" y="1143000"/>
              <a:ext cx="1942560" cy="703440"/>
              <a:chOff x="511560" y="1143000"/>
              <a:chExt cx="1942560" cy="703440"/>
            </a:xfrm>
          </p:grpSpPr>
          <p:sp>
            <p:nvSpPr>
              <p:cNvPr id="312" name="Text Box 6"/>
              <p:cNvSpPr/>
              <p:nvPr/>
            </p:nvSpPr>
            <p:spPr>
              <a:xfrm>
                <a:off x="511560" y="114300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7"/>
              <p:cNvSpPr/>
              <p:nvPr/>
            </p:nvSpPr>
            <p:spPr>
              <a:xfrm>
                <a:off x="1920960" y="131148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8"/>
          <p:cNvGrpSpPr/>
          <p:nvPr/>
        </p:nvGrpSpPr>
        <p:grpSpPr>
          <a:xfrm>
            <a:off x="511560" y="2378160"/>
            <a:ext cx="8145000" cy="703440"/>
            <a:chOff x="511560" y="2378160"/>
            <a:chExt cx="8145000" cy="703440"/>
          </a:xfrm>
        </p:grpSpPr>
        <p:sp>
          <p:nvSpPr>
            <p:cNvPr id="315" name="Text Box 9"/>
            <p:cNvSpPr/>
            <p:nvPr/>
          </p:nvSpPr>
          <p:spPr>
            <a:xfrm>
              <a:off x="2944800" y="2435400"/>
              <a:ext cx="57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HOW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do we want to </a:t>
              </a:r>
              <a:r>
                <a:rPr b="0" i="1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Implement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0"/>
            <p:cNvGrpSpPr/>
            <p:nvPr/>
          </p:nvGrpSpPr>
          <p:grpSpPr>
            <a:xfrm>
              <a:off x="511560" y="2378160"/>
              <a:ext cx="1942560" cy="703440"/>
              <a:chOff x="511560" y="2378160"/>
              <a:chExt cx="1942560" cy="703440"/>
            </a:xfrm>
          </p:grpSpPr>
          <p:sp>
            <p:nvSpPr>
              <p:cNvPr id="317" name="Text Box 11"/>
              <p:cNvSpPr/>
              <p:nvPr/>
            </p:nvSpPr>
            <p:spPr>
              <a:xfrm>
                <a:off x="511560" y="237816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2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12"/>
              <p:cNvSpPr/>
              <p:nvPr/>
            </p:nvSpPr>
            <p:spPr>
              <a:xfrm>
                <a:off x="1920960" y="254664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Rectangle 13"/>
          <p:cNvSpPr/>
          <p:nvPr/>
        </p:nvSpPr>
        <p:spPr>
          <a:xfrm>
            <a:off x="762120" y="182880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Objectives, Services, Service Levels,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762120" y="320040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Technology, Process, Delivery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511560" y="4892760"/>
            <a:ext cx="7048800" cy="703440"/>
            <a:chOff x="511560" y="4892760"/>
            <a:chExt cx="7048800" cy="703440"/>
          </a:xfrm>
        </p:grpSpPr>
        <p:sp>
          <p:nvSpPr>
            <p:cNvPr id="322" name="Text Box 16"/>
            <p:cNvSpPr/>
            <p:nvPr/>
          </p:nvSpPr>
          <p:spPr>
            <a:xfrm>
              <a:off x="2819880" y="4950000"/>
              <a:ext cx="474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HO </a:t>
              </a:r>
              <a:r>
                <a:rPr b="0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ill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 be responsible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17"/>
            <p:cNvGrpSpPr/>
            <p:nvPr/>
          </p:nvGrpSpPr>
          <p:grpSpPr>
            <a:xfrm>
              <a:off x="511560" y="4892760"/>
              <a:ext cx="1942560" cy="703440"/>
              <a:chOff x="511560" y="4892760"/>
              <a:chExt cx="1942560" cy="703440"/>
            </a:xfrm>
          </p:grpSpPr>
          <p:sp>
            <p:nvSpPr>
              <p:cNvPr id="324" name="Text Box 18"/>
              <p:cNvSpPr/>
              <p:nvPr/>
            </p:nvSpPr>
            <p:spPr>
              <a:xfrm>
                <a:off x="511560" y="489276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4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920960" y="506124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Rectangle 20"/>
          <p:cNvSpPr/>
          <p:nvPr/>
        </p:nvSpPr>
        <p:spPr>
          <a:xfrm>
            <a:off x="762120" y="563868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Procurement, Training, Change Mgmt, O &amp; M,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11560" y="3733920"/>
            <a:ext cx="6994080" cy="703440"/>
            <a:chOff x="511560" y="3733920"/>
            <a:chExt cx="6994080" cy="703440"/>
          </a:xfrm>
        </p:grpSpPr>
        <p:sp>
          <p:nvSpPr>
            <p:cNvPr id="328" name="Text Box 22"/>
            <p:cNvSpPr/>
            <p:nvPr/>
          </p:nvSpPr>
          <p:spPr>
            <a:xfrm>
              <a:off x="2909880" y="3790800"/>
              <a:ext cx="459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WITH WHAT </a:t>
              </a:r>
              <a:r>
                <a:rPr b="0" lang="en-US" sz="2800" spc="-1" strike="noStrike">
                  <a:solidFill>
                    <a:srgbClr val="3b812f"/>
                  </a:solidFill>
                  <a:latin typeface="Verdana"/>
                  <a:ea typeface="Arial"/>
                </a:rPr>
                <a:t>resources 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3"/>
            <p:cNvGrpSpPr/>
            <p:nvPr/>
          </p:nvGrpSpPr>
          <p:grpSpPr>
            <a:xfrm>
              <a:off x="511560" y="3733920"/>
              <a:ext cx="1942560" cy="703440"/>
              <a:chOff x="511560" y="3733920"/>
              <a:chExt cx="1942560" cy="703440"/>
            </a:xfrm>
          </p:grpSpPr>
          <p:sp>
            <p:nvSpPr>
              <p:cNvPr id="330" name="Text Box 24"/>
              <p:cNvSpPr/>
              <p:nvPr/>
            </p:nvSpPr>
            <p:spPr>
              <a:xfrm>
                <a:off x="511560" y="3733920"/>
                <a:ext cx="115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Verdana"/>
                    <a:ea typeface="Arial"/>
                  </a:rPr>
                  <a:t>Q#3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25"/>
              <p:cNvSpPr/>
              <p:nvPr/>
            </p:nvSpPr>
            <p:spPr>
              <a:xfrm>
                <a:off x="1920960" y="3902400"/>
                <a:ext cx="533160" cy="457200"/>
              </a:xfrm>
              <a:prstGeom prst="rightArrow">
                <a:avLst>
                  <a:gd name="adj1" fmla="val 50000"/>
                  <a:gd name="adj2" fmla="val 2915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Rectangle 26"/>
          <p:cNvSpPr/>
          <p:nvPr/>
        </p:nvSpPr>
        <p:spPr>
          <a:xfrm>
            <a:off x="762120" y="4479840"/>
            <a:ext cx="7772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Business Model, Service Charges, P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proach to be adopte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262260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20"/>
          <p:cNvGrpSpPr/>
          <p:nvPr/>
        </p:nvGrpSpPr>
        <p:grpSpPr>
          <a:xfrm>
            <a:off x="5718240" y="1066680"/>
            <a:ext cx="3425400" cy="5181840"/>
            <a:chOff x="5718240" y="1066680"/>
            <a:chExt cx="3425400" cy="5181840"/>
          </a:xfrm>
        </p:grpSpPr>
        <p:grpSp>
          <p:nvGrpSpPr>
            <p:cNvPr id="336" name="Group 11"/>
            <p:cNvGrpSpPr/>
            <p:nvPr/>
          </p:nvGrpSpPr>
          <p:grpSpPr>
            <a:xfrm>
              <a:off x="5718240" y="1066680"/>
              <a:ext cx="3117240" cy="5181840"/>
              <a:chOff x="5718240" y="1066680"/>
              <a:chExt cx="3117240" cy="5181840"/>
            </a:xfrm>
          </p:grpSpPr>
          <p:pic>
            <p:nvPicPr>
              <p:cNvPr id="33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718240" y="1066680"/>
                <a:ext cx="2982960" cy="518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Rectangle 9"/>
              <p:cNvSpPr/>
              <p:nvPr/>
            </p:nvSpPr>
            <p:spPr>
              <a:xfrm>
                <a:off x="6057000" y="3886200"/>
                <a:ext cx="107568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"/>
              <p:cNvSpPr/>
              <p:nvPr/>
            </p:nvSpPr>
            <p:spPr>
              <a:xfrm>
                <a:off x="7222320" y="3733920"/>
                <a:ext cx="16131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Rectangle 5"/>
            <p:cNvSpPr/>
            <p:nvPr/>
          </p:nvSpPr>
          <p:spPr>
            <a:xfrm>
              <a:off x="7261200" y="5334120"/>
              <a:ext cx="18824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le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8"/>
            <p:cNvSpPr/>
            <p:nvPr/>
          </p:nvSpPr>
          <p:spPr>
            <a:xfrm flipV="1">
              <a:off x="8202600" y="3200400"/>
              <a:ext cx="0" cy="1828800"/>
            </a:xfrm>
            <a:prstGeom prst="line">
              <a:avLst/>
            </a:prstGeom>
            <a:ln w="12708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3156120" y="3962520"/>
            <a:ext cx="3092400" cy="914400"/>
            <a:chOff x="3156120" y="3962520"/>
            <a:chExt cx="3092400" cy="914400"/>
          </a:xfrm>
        </p:grpSpPr>
        <p:sp>
          <p:nvSpPr>
            <p:cNvPr id="343" name="AutoShape 8"/>
            <p:cNvSpPr/>
            <p:nvPr/>
          </p:nvSpPr>
          <p:spPr>
            <a:xfrm>
              <a:off x="3156120" y="4038480"/>
              <a:ext cx="798480" cy="838440"/>
            </a:xfrm>
            <a:custGeom>
              <a:avLst/>
              <a:gdLst>
                <a:gd name="textAreaLeft" fmla="*/ 106920 w 798480"/>
                <a:gd name="textAreaRight" fmla="*/ 691560 w 79848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3689280" y="396252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5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al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3"/>
            <p:cNvSpPr/>
            <p:nvPr/>
          </p:nvSpPr>
          <p:spPr>
            <a:xfrm>
              <a:off x="5450040" y="4038480"/>
              <a:ext cx="798480" cy="838440"/>
            </a:xfrm>
            <a:custGeom>
              <a:avLst/>
              <a:gdLst>
                <a:gd name="textAreaLeft" fmla="*/ 106920 w 798480"/>
                <a:gd name="textAreaRight" fmla="*/ 691560 w 79848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4647960"/>
            <a:ext cx="8001000" cy="990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Process Transformat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F8A-ADF6-4AAC-90A7-80470F65395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349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Oval 10"/>
          <p:cNvSpPr/>
          <p:nvPr/>
        </p:nvSpPr>
        <p:spPr>
          <a:xfrm>
            <a:off x="3200400" y="2057400"/>
            <a:ext cx="83808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17524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re is space for e-Government 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968-9659-4889-9007-F23A03BC261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533520" y="3352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..wherever we see symptoms of   Poor Governan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533520" y="4876920"/>
            <a:ext cx="8381880" cy="1447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.. Air of Mystification, Long Queues,   Multiple Visits …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ervice is Paramoun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387-FCA1-4238-9244-6200FFC6A20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3352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is subordinate.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533520" y="510552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Focus on Services, Service Leve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on’t TRANSLATE a process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74C6-9F5D-41A1-AC11-73351C46208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533520" y="44197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RANSFORM a process ! 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aramond"/>
                <a:ea typeface="Arial"/>
              </a:rPr>
              <a:t>Simplify, Remove non-value steps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aramond"/>
                <a:ea typeface="Arial"/>
              </a:rPr>
              <a:t>Minimize manual interventions, Change Acts/Manual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Process :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 messag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 # 3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onsult Stakeholders</a:t>
            </a:r>
            <a:br>
              <a:rPr sz="4600"/>
            </a:b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.. Internal, Extern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F750-D018-4ABA-9B13-D280182CFA3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533520" y="4495680"/>
            <a:ext cx="8381880" cy="17528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Otherwise,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your design can be off the mark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 :  message  # 4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arallel runs ensure failure of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e-Government effort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B82-9092-49B3-97E8-795F42170FD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533520" y="35053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Manual Systems overtake Digital System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rocess: message #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525780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af8d6"/>
                </a:solidFill>
                <a:latin typeface="Garamond"/>
                <a:ea typeface="Arial"/>
              </a:rPr>
              <a:t>Kill inefficient alternativ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4647960"/>
            <a:ext cx="8001000" cy="990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Transforming Peopl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7509-33EA-4B96-90B4-C5BF7F1301A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382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Oval 10"/>
          <p:cNvSpPr/>
          <p:nvPr/>
        </p:nvSpPr>
        <p:spPr>
          <a:xfrm>
            <a:off x="4038480" y="2133720"/>
            <a:ext cx="83844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-Government i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5FB-98CC-4975-9F51-CCA67A93DB1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533520" y="2666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… </a:t>
            </a: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For the People,</a:t>
            </a:r>
            <a:br>
              <a:rPr sz="3800"/>
            </a:b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       with the People,</a:t>
            </a:r>
            <a:br>
              <a:rPr sz="3800"/>
            </a:br>
            <a:r>
              <a:rPr b="0" i="1" lang="en-US" sz="3800" spc="-1" strike="noStrike">
                <a:solidFill>
                  <a:srgbClr val="000099"/>
                </a:solidFill>
                <a:latin typeface="Garamond"/>
                <a:ea typeface="Arial"/>
              </a:rPr>
              <a:t>   &amp; by the People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86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1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533520" y="4876920"/>
            <a:ext cx="8381880" cy="1447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.. Inform them, Involve them and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ncentivize adop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DSC01315"/>
          <p:cNvPicPr/>
          <p:nvPr/>
        </p:nvPicPr>
        <p:blipFill>
          <a:blip r:embed="rId1">
            <a:grayscl/>
            <a:lum bright="18000"/>
          </a:blip>
          <a:stretch/>
        </p:blipFill>
        <p:spPr>
          <a:xfrm>
            <a:off x="2286000" y="3048120"/>
            <a:ext cx="3100320" cy="2066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DSC02015"/>
          <p:cNvPicPr/>
          <p:nvPr/>
        </p:nvPicPr>
        <p:blipFill>
          <a:blip r:embed="rId2"/>
          <a:stretch/>
        </p:blipFill>
        <p:spPr>
          <a:xfrm>
            <a:off x="5029200" y="1752480"/>
            <a:ext cx="3697200" cy="277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3_m"/>
          <p:cNvPicPr/>
          <p:nvPr/>
        </p:nvPicPr>
        <p:blipFill>
          <a:blip r:embed="rId3">
            <a:grayscl/>
            <a:lum bright="12000"/>
          </a:blip>
          <a:stretch/>
        </p:blipFill>
        <p:spPr>
          <a:xfrm>
            <a:off x="380880" y="1066680"/>
            <a:ext cx="3467160" cy="2262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waiting"/>
          <p:cNvPicPr/>
          <p:nvPr/>
        </p:nvPicPr>
        <p:blipFill>
          <a:blip r:embed="rId4"/>
          <a:stretch/>
        </p:blipFill>
        <p:spPr>
          <a:xfrm>
            <a:off x="2590920" y="4495680"/>
            <a:ext cx="3657600" cy="21970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45720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llions of citizens spend time attempting to access Government  services that should be rightfully the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waiting_room"/>
          <p:cNvPicPr/>
          <p:nvPr/>
        </p:nvPicPr>
        <p:blipFill>
          <a:blip r:embed="rId5"/>
          <a:stretch/>
        </p:blipFill>
        <p:spPr>
          <a:xfrm>
            <a:off x="304920" y="3200400"/>
            <a:ext cx="3047760" cy="1920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registration"/>
          <p:cNvPicPr/>
          <p:nvPr/>
        </p:nvPicPr>
        <p:blipFill>
          <a:blip r:embed="rId6"/>
          <a:stretch/>
        </p:blipFill>
        <p:spPr>
          <a:xfrm>
            <a:off x="3733920" y="9144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ArunSouri"/>
          <p:cNvPicPr/>
          <p:nvPr/>
        </p:nvPicPr>
        <p:blipFill>
          <a:blip r:embed="rId7"/>
          <a:stretch/>
        </p:blipFill>
        <p:spPr>
          <a:xfrm>
            <a:off x="5715000" y="41148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119E-D046-4BD7-A8D6-C962EC94024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vest Time in Project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5B5-9BA7-476E-BF2B-CECE9694AB7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4572000"/>
            <a:ext cx="838188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Conceptualize, Architect, Desig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plicate where ever possible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…do not re-invent the whe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C98-4B58-4C63-B0A2-AC38DE73BD1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Not only : processes, technology, business model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…but more important the spirit of the   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people driving the projec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3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adership is Critical to Succ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C0D-0B26-4883-9243-06D1FA27FDC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Leaders can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Create Vision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 Prioritize ..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       Take Hard Decis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4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 Internal Capacity - Competencies within Depart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011-90AA-4782-BD5C-A239FABB4B8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457200" y="4343400"/>
            <a:ext cx="8381880" cy="1371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At Project &amp; Program leve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pacity Need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" name="Slide Number Placeholder 1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648-E4E4-4590-9196-69631D77794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5029200" y="1066680"/>
            <a:ext cx="3809880" cy="762120"/>
          </a:xfrm>
          <a:prstGeom prst="rect">
            <a:avLst/>
          </a:prstGeom>
          <a:solidFill>
            <a:srgbClr val="96a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dership &amp;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029200" y="2286000"/>
            <a:ext cx="3809880" cy="76212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5029200" y="3505320"/>
            <a:ext cx="3809880" cy="7617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029200" y="4724280"/>
            <a:ext cx="3809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029200" y="5943600"/>
            <a:ext cx="38098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6781680" y="1828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781680" y="30481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6781680" y="4267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6781680" y="54864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685800" y="9907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a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olicy For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ommitting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aking hard deci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685800" y="21337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eparing Roadm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orit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rameworks, Guid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685800" y="3276720"/>
            <a:ext cx="3809880" cy="1143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Monitoring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Inter-agency Collab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und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apacit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685800" y="4572000"/>
            <a:ext cx="3809880" cy="99072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onceptu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rchite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efinition (RFP, SLA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6"/>
          <p:cNvSpPr/>
          <p:nvPr/>
        </p:nvSpPr>
        <p:spPr>
          <a:xfrm>
            <a:off x="685800" y="5791320"/>
            <a:ext cx="3809880" cy="9903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Bid Proces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oject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Quality Assu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304920" y="20574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Garamond"/>
              </a:rPr>
              <a:t>The most pervasive issu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BBE-C0CF-4AD4-9BBE-D6C975B78CE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"/>
          <p:cNvSpPr/>
          <p:nvPr/>
        </p:nvSpPr>
        <p:spPr>
          <a:xfrm>
            <a:off x="3429000" y="2819520"/>
            <a:ext cx="228600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228600" y="1676520"/>
            <a:ext cx="8763120" cy="4343400"/>
            <a:chOff x="228600" y="1676520"/>
            <a:chExt cx="8763120" cy="4343400"/>
          </a:xfrm>
        </p:grpSpPr>
        <p:sp>
          <p:nvSpPr>
            <p:cNvPr id="432" name="AutoShape 5"/>
            <p:cNvSpPr/>
            <p:nvPr/>
          </p:nvSpPr>
          <p:spPr>
            <a:xfrm>
              <a:off x="228600" y="1676520"/>
              <a:ext cx="3505320" cy="1295280"/>
            </a:xfrm>
            <a:prstGeom prst="wedgeRectCallout">
              <a:avLst>
                <a:gd name="adj1" fmla="val 43750"/>
                <a:gd name="adj2" fmla="val 8369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nceptualiz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ion, Objectiv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&amp; Outcom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P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6"/>
            <p:cNvSpPr/>
            <p:nvPr/>
          </p:nvSpPr>
          <p:spPr>
            <a:xfrm>
              <a:off x="5486400" y="1676520"/>
              <a:ext cx="3505320" cy="1295280"/>
            </a:xfrm>
            <a:prstGeom prst="wedgeRectCallout">
              <a:avLst>
                <a:gd name="adj1" fmla="val -45967"/>
                <a:gd name="adj2" fmla="val 86518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sig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Re-engineering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chitectur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Mod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7"/>
            <p:cNvSpPr/>
            <p:nvPr/>
          </p:nvSpPr>
          <p:spPr>
            <a:xfrm>
              <a:off x="5486400" y="4648320"/>
              <a:ext cx="3505320" cy="1295280"/>
            </a:xfrm>
            <a:prstGeom prst="wedgeRectCallout">
              <a:avLst>
                <a:gd name="adj1" fmla="val -45291"/>
                <a:gd name="adj2" fmla="val -913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mplement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ment &amp; Test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8"/>
            <p:cNvSpPr/>
            <p:nvPr/>
          </p:nvSpPr>
          <p:spPr>
            <a:xfrm>
              <a:off x="228600" y="4724280"/>
              <a:ext cx="3581280" cy="1295640"/>
            </a:xfrm>
            <a:prstGeom prst="wedgeRectCallout">
              <a:avLst>
                <a:gd name="adj1" fmla="val 42199"/>
                <a:gd name="adj2" fmla="val -88481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ost- Implementation Sta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A Manag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ess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hancemen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uild long term Capacities…</a:t>
            </a:r>
            <a:br>
              <a:rPr sz="4600"/>
            </a:br>
            <a:r>
              <a:rPr b="0" i="1" lang="en-US" sz="5400" spc="-1" strike="noStrike">
                <a:solidFill>
                  <a:srgbClr val="000099"/>
                </a:solidFill>
                <a:latin typeface="Garamond"/>
              </a:rPr>
              <a:t>e-Gov Champ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0C9-47AF-445B-BE47-ED04FA9B15E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People : message # 6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533520" y="4191120"/>
            <a:ext cx="8381880" cy="17524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nvest in long term training programs 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Identify the right employees to be trained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1760" y="4724280"/>
            <a:ext cx="7848360" cy="106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Managing Technology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CD6-C889-4B26-828A-A5205444228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443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Oval 10"/>
          <p:cNvSpPr/>
          <p:nvPr/>
        </p:nvSpPr>
        <p:spPr>
          <a:xfrm>
            <a:off x="4952880" y="1981080"/>
            <a:ext cx="8384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sign System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or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calability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liability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curi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30F-2330-4D51-9F95-76EDC04AD4C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echnology : message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You are dealing with citizens &amp; busines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cus on User Experi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6375-AE79-4AD2-B587-61D97A65870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80880" y="3962520"/>
            <a:ext cx="8382240" cy="10666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Design a Delivery Channel Strateg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609480" y="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Technology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06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Iss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 rot="20133000">
            <a:off x="2362680" y="37335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actions with 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802080" y="1555920"/>
            <a:ext cx="7579800" cy="5225760"/>
            <a:chOff x="802080" y="1555920"/>
            <a:chExt cx="7579800" cy="5225760"/>
          </a:xfrm>
        </p:grpSpPr>
        <p:sp>
          <p:nvSpPr>
            <p:cNvPr id="240" name="Freeform 5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f5f5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6"/>
            <p:cNvSpPr/>
            <p:nvPr/>
          </p:nvSpPr>
          <p:spPr>
            <a:xfrm>
              <a:off x="3963960" y="4495680"/>
              <a:ext cx="1598760" cy="1600200"/>
            </a:xfrm>
            <a:prstGeom prst="ellipse">
              <a:avLst/>
            </a:prstGeom>
            <a:gradFill rotWithShape="0">
              <a:gsLst>
                <a:gs pos="0">
                  <a:srgbClr val="3b812f"/>
                </a:gs>
                <a:gs pos="100000">
                  <a:srgbClr val="152e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838080" y="4114800"/>
              <a:ext cx="1600200" cy="1600200"/>
              <a:chOff x="838080" y="4114800"/>
              <a:chExt cx="1600200" cy="1600200"/>
            </a:xfrm>
          </p:grpSpPr>
          <p:sp>
            <p:nvSpPr>
              <p:cNvPr id="243" name="Oval 8"/>
              <p:cNvSpPr/>
              <p:nvPr/>
            </p:nvSpPr>
            <p:spPr>
              <a:xfrm>
                <a:off x="838080" y="411480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403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1002960" y="4451400"/>
                <a:ext cx="1265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9d9d9"/>
                    </a:solidFill>
                    <a:latin typeface="Arial"/>
                  </a:rPr>
                  <a:t>Urban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9d9d9"/>
                    </a:solidFill>
                    <a:latin typeface="Arial"/>
                  </a:rPr>
                  <a:t>Citizen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0"/>
            <p:cNvGrpSpPr/>
            <p:nvPr/>
          </p:nvGrpSpPr>
          <p:grpSpPr>
            <a:xfrm>
              <a:off x="3581280" y="1981080"/>
              <a:ext cx="1600200" cy="1600200"/>
              <a:chOff x="3581280" y="1981080"/>
              <a:chExt cx="1600200" cy="1600200"/>
            </a:xfrm>
          </p:grpSpPr>
          <p:sp>
            <p:nvSpPr>
              <p:cNvPr id="246" name="Oval 11"/>
              <p:cNvSpPr/>
              <p:nvPr/>
            </p:nvSpPr>
            <p:spPr>
              <a:xfrm>
                <a:off x="3581280" y="198108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2"/>
              <p:cNvSpPr/>
              <p:nvPr/>
            </p:nvSpPr>
            <p:spPr>
              <a:xfrm>
                <a:off x="3739320" y="251424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armer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>
              <a:off x="6705720" y="19810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afbf39"/>
                </a:gs>
                <a:gs pos="100000">
                  <a:srgbClr val="3c42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6870240" y="243828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Mediu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Indust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"/>
            <p:cNvSpPr/>
            <p:nvPr/>
          </p:nvSpPr>
          <p:spPr>
            <a:xfrm>
              <a:off x="4026600" y="481644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Larg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Arial"/>
                </a:rPr>
                <a:t>Busin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6"/>
          <p:cNvSpPr/>
          <p:nvPr/>
        </p:nvSpPr>
        <p:spPr>
          <a:xfrm>
            <a:off x="152280" y="2895480"/>
            <a:ext cx="2286000" cy="838440"/>
          </a:xfrm>
          <a:prstGeom prst="wedgeRoundRectCallout">
            <a:avLst>
              <a:gd name="adj1" fmla="val 36597"/>
              <a:gd name="adj2" fmla="val 124430"/>
              <a:gd name="adj3" fmla="val 16667"/>
            </a:avLst>
          </a:prstGeom>
          <a:gradFill rotWithShape="0">
            <a:gsLst>
              <a:gs pos="0">
                <a:srgbClr val="cc9900"/>
              </a:gs>
              <a:gs pos="50000">
                <a:srgbClr val="5e47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1066680" y="1447920"/>
            <a:ext cx="2286000" cy="838080"/>
          </a:xfrm>
          <a:prstGeom prst="wedgeRoundRectCallout">
            <a:avLst>
              <a:gd name="adj1" fmla="val 68333"/>
              <a:gd name="adj2" fmla="val 114583"/>
              <a:gd name="adj3" fmla="val 16667"/>
            </a:avLst>
          </a:prstGeom>
          <a:gradFill rotWithShape="0">
            <a:gsLst>
              <a:gs pos="0">
                <a:srgbClr val="4d4d4d"/>
              </a:gs>
              <a:gs pos="50000">
                <a:srgbClr val="242424"/>
              </a:gs>
              <a:gs pos="100000">
                <a:srgbClr val="4d4d4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>
            <a:off x="4800600" y="1143000"/>
            <a:ext cx="2286000" cy="838080"/>
          </a:xfrm>
          <a:prstGeom prst="wedgeRoundRectCallout">
            <a:avLst>
              <a:gd name="adj1" fmla="val 43611"/>
              <a:gd name="adj2" fmla="val 101703"/>
              <a:gd name="adj3" fmla="val 16667"/>
            </a:avLst>
          </a:prstGeom>
          <a:gradFill rotWithShape="0">
            <a:gsLst>
              <a:gs pos="0">
                <a:srgbClr val="afbf39"/>
              </a:gs>
              <a:gs pos="50000">
                <a:srgbClr val="51581a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5562720" y="5943600"/>
            <a:ext cx="2590560" cy="838080"/>
          </a:xfrm>
          <a:prstGeom prst="wedgeRoundRectCallout">
            <a:avLst>
              <a:gd name="adj1" fmla="val -55574"/>
              <a:gd name="adj2" fmla="val -143750"/>
              <a:gd name="adj3" fmla="val 16667"/>
            </a:avLst>
          </a:prstGeom>
          <a:gradFill rotWithShape="0">
            <a:gsLst>
              <a:gs pos="0">
                <a:srgbClr val="336600"/>
              </a:gs>
              <a:gs pos="50000">
                <a:srgbClr val="182f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00+ inter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 depart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5867280" y="3886200"/>
            <a:ext cx="3276720" cy="1905120"/>
            <a:chOff x="5867280" y="3886200"/>
            <a:chExt cx="3276720" cy="1905120"/>
          </a:xfrm>
        </p:grpSpPr>
        <p:sp>
          <p:nvSpPr>
            <p:cNvPr id="256" name="Cloud"/>
            <p:cNvSpPr/>
            <p:nvPr/>
          </p:nvSpPr>
          <p:spPr>
            <a:xfrm>
              <a:off x="5867280" y="3903840"/>
              <a:ext cx="3276720" cy="1887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n we streamlin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se interac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enhance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tional Productivit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8216640" y="3886200"/>
              <a:ext cx="92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endParaRPr b="1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1760" y="4724280"/>
            <a:ext cx="7848360" cy="914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8d6"/>
                </a:solidFill>
                <a:latin typeface="Garamond"/>
              </a:rPr>
              <a:t>Managing Resource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A8DE-CDD0-4AEF-85CC-CF571ACA2BC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2743200" y="1676520"/>
            <a:ext cx="4267080" cy="2361600"/>
            <a:chOff x="2743200" y="1676520"/>
            <a:chExt cx="4267080" cy="2361600"/>
          </a:xfrm>
        </p:grpSpPr>
        <p:sp>
          <p:nvSpPr>
            <p:cNvPr id="461" name="Rectangle 4"/>
            <p:cNvSpPr/>
            <p:nvPr/>
          </p:nvSpPr>
          <p:spPr>
            <a:xfrm rot="16200000">
              <a:off x="2825640" y="2903760"/>
              <a:ext cx="1581840" cy="51372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>
              <a:hlinkClick r:id="rId1" action="ppaction://hlinksldjump"/>
            </p:cNvPr>
            <p:cNvSpPr/>
            <p:nvPr/>
          </p:nvSpPr>
          <p:spPr>
            <a:xfrm rot="16200000">
              <a:off x="370008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">
              <a:hlinkClick r:id="rId2" action="ppaction://hlinksldjump"/>
            </p:cNvPr>
            <p:cNvSpPr/>
            <p:nvPr/>
          </p:nvSpPr>
          <p:spPr>
            <a:xfrm rot="16200000">
              <a:off x="457380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 rot="16200000">
              <a:off x="5499360" y="2903760"/>
              <a:ext cx="1581840" cy="5140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>
              <a:off x="2743200" y="1676520"/>
              <a:ext cx="4267080" cy="649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e-Governmen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2794320" y="3951720"/>
              <a:ext cx="4164120" cy="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Oval 10"/>
          <p:cNvSpPr/>
          <p:nvPr/>
        </p:nvSpPr>
        <p:spPr>
          <a:xfrm>
            <a:off x="5867280" y="1981080"/>
            <a:ext cx="8384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stainability is a Key Concer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AB9-B6B7-4261-A600-E3F054E3D82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80880" y="3352680"/>
            <a:ext cx="8382240" cy="3124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af8d6"/>
                </a:solidFill>
                <a:latin typeface="Garamond"/>
                <a:ea typeface="Arial"/>
              </a:rPr>
              <a:t>Design an Implementation Model   for Sustainability ...</a:t>
            </a:r>
            <a:br>
              <a:rPr sz="34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- </a:t>
            </a: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Financial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Organizational 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Legal</a:t>
            </a:r>
            <a:br>
              <a:rPr sz="3300"/>
            </a:br>
            <a:r>
              <a:rPr b="0" i="1" lang="en-US" sz="3300" spc="-1" strike="noStrike">
                <a:solidFill>
                  <a:srgbClr val="faf8d6"/>
                </a:solidFill>
                <a:latin typeface="Garamond"/>
                <a:ea typeface="Arial"/>
              </a:rPr>
              <a:t>                  - Technologica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Resources : message # 1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280" y="20574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r Charges can be a 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werful re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5FB-BF62-4769-AAEE-16D2A12B7EB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3886200"/>
            <a:ext cx="8382240" cy="1371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Ensure Sustainability &amp;</a:t>
            </a:r>
            <a:br>
              <a:rPr sz="3800"/>
            </a:br>
            <a:r>
              <a:rPr b="0" i="1" lang="en-US" sz="3800" spc="-1" strike="noStrike">
                <a:solidFill>
                  <a:srgbClr val="faf8d6"/>
                </a:solidFill>
                <a:latin typeface="Garamond"/>
                <a:ea typeface="Arial"/>
              </a:rPr>
              <a:t>Value for Mone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  <a:ea typeface="Arial"/>
              </a:rPr>
              <a:t>Resources : message # 2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xplore Public Private Partnership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F86D-2CB4-4E83-AAF9-871BF54E042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80880" y="3962520"/>
            <a:ext cx="8382240" cy="21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Combine Efficiency &amp; Customer Orientation</a:t>
            </a:r>
            <a:br>
              <a:rPr sz="3400"/>
            </a:b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with Accountabilit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99"/>
                </a:solidFill>
                <a:latin typeface="Garamond"/>
                <a:ea typeface="Arial"/>
              </a:rPr>
              <a:t>Develop Service Level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04920" y="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Arial"/>
              </a:rPr>
              <a:t>Resources: message # 3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14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Government rests on 4 pill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808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tion is critical in e-Gover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 building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hip - Political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w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FA2-B756-448C-B280-596061E31B4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Picture1"/>
          <p:cNvPicPr/>
          <p:nvPr/>
        </p:nvPicPr>
        <p:blipFill>
          <a:blip r:embed="rId1"/>
          <a:stretch/>
        </p:blipFill>
        <p:spPr>
          <a:xfrm>
            <a:off x="6324480" y="28260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crossroads-cropped"/>
          <p:cNvPicPr/>
          <p:nvPr/>
        </p:nvPicPr>
        <p:blipFill>
          <a:blip r:embed="rId1"/>
          <a:stretch/>
        </p:blipFill>
        <p:spPr>
          <a:xfrm>
            <a:off x="0" y="358920"/>
            <a:ext cx="4114800" cy="59785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0"/>
          <p:cNvSpPr/>
          <p:nvPr/>
        </p:nvSpPr>
        <p:spPr>
          <a:xfrm flipV="1" rot="10800000">
            <a:off x="4952880" y="356688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2133720" y="457200"/>
            <a:ext cx="6781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no uninteresting things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There are only uninterested people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4343400" y="2666880"/>
            <a:ext cx="4343400" cy="825480"/>
          </a:xfrm>
          <a:prstGeom prst="rect">
            <a:avLst/>
          </a:prstGeom>
          <a:solidFill>
            <a:srgbClr val="0000f2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8d6"/>
                </a:solidFill>
                <a:latin typeface="Palatino Linotype"/>
                <a:ea typeface="Arial"/>
              </a:rPr>
              <a:t>e-Governance is a journey, Not the destination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5257800" y="46404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d@nielit.i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FF7-3E5B-48EB-9781-EBB1F18C0DA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17440"/>
            <a:ext cx="6650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812f"/>
                </a:solidFill>
                <a:latin typeface="Garamond"/>
              </a:rPr>
              <a:t>Success &amp; Failure R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7800" y="1480680"/>
            <a:ext cx="75949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% of eGov projects are 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not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abandon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eGov projects are partial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tated goals not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ccess but failure after an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for one group but failure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eGov projects are 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keholders benef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ver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6B1-8542-4AAF-9FDF-0E4FDDC0AED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6095880" y="380880"/>
            <a:ext cx="3200400" cy="3048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Most Failures 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rooted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impr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Project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&a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Project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76320" y="4724280"/>
            <a:ext cx="1447560" cy="2057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We need 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eff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institutional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to im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Success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999-561D-4796-93A8-235D3219618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04560" y="1488600"/>
            <a:ext cx="8381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return on investment (value in terms of reduction in service delivery timelines, administrative burden, improvement in SLA’s, quality of service…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in meeting defined project objectives (if any are defi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quality of the product &amp; services (performance of product and vend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dor lock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any mo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itle 1"/>
          <p:cNvSpPr/>
          <p:nvPr/>
        </p:nvSpPr>
        <p:spPr>
          <a:xfrm>
            <a:off x="2286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algn="ctr"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HALLENGES IN CURRENT ENVIRONMENT - 2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-Government Projec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160" y="228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SOME KEY FACTORS CONTRIBUTING TO CURRENT ENVIRONMENT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608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ject design incompatible with current readiness and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ast time spent by the organizations in planning and desig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clear and measurable project goals, objectives and anticipated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rger emphasis on IT enablement with minimal focus on business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Minimal focus on key project enablers (GPR, people change, capacity building.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nimal focus on project and systems quality assur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or communication to the stakeholders and users on objectives and benef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adequate resources for project (people and fund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capacities to conceptualize and manage e-governanc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ior leadership attention towards e-Governance initiatives is minimal – often regarded as a low priorit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ck of stable project and permanent leadership with managerial powers to driv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836"/>
              </a:spcBef>
              <a:spcAft>
                <a:spcPts val="42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NEED FOR A MORE ROBUST APPROACH FOR E-GOVERNANCE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560" y="914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 SUPPORT GOVERNMENT  OR PUBLIC SECTOR ORGANIZATION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t righ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 project design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ustomer focus an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heightened focus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siness and stakeholder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orit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requirements in line with business and stakehold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in adop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 practi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ight approach at each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vate sector particip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ject delivery to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1199"/>
              </a:spcBef>
              <a:spcAft>
                <a:spcPts val="11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hased implement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minimal impact and maximum results to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1066680" y="1079640"/>
            <a:ext cx="3733920" cy="2958840"/>
            <a:chOff x="1066680" y="1079640"/>
            <a:chExt cx="3733920" cy="2958840"/>
          </a:xfrm>
        </p:grpSpPr>
        <p:sp>
          <p:nvSpPr>
            <p:cNvPr id="272" name="Rectangle 3"/>
            <p:cNvSpPr/>
            <p:nvPr/>
          </p:nvSpPr>
          <p:spPr>
            <a:xfrm rot="16200000">
              <a:off x="924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roces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">
              <a:hlinkClick r:id="rId1" action="ppaction://hlinksldjump"/>
            </p:cNvPr>
            <p:cNvSpPr/>
            <p:nvPr/>
          </p:nvSpPr>
          <p:spPr>
            <a:xfrm rot="16200000">
              <a:off x="1689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eop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>
              <a:hlinkClick r:id="rId2" action="ppaction://hlinksldjump"/>
            </p:cNvPr>
            <p:cNvSpPr/>
            <p:nvPr/>
          </p:nvSpPr>
          <p:spPr>
            <a:xfrm rot="16200000">
              <a:off x="245520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Technolo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>
              <a:hlinkClick r:id="rId3" action="ppaction://hlinksldjump"/>
            </p:cNvPr>
            <p:cNvSpPr/>
            <p:nvPr/>
          </p:nvSpPr>
          <p:spPr>
            <a:xfrm rot="16200000">
              <a:off x="3264840" y="2662920"/>
              <a:ext cx="1812960" cy="449280"/>
            </a:xfrm>
            <a:prstGeom prst="rect">
              <a:avLst/>
            </a:prstGeom>
            <a:gradFill rotWithShape="0">
              <a:gsLst>
                <a:gs pos="0">
                  <a:srgbClr val="76762f"/>
                </a:gs>
                <a:gs pos="50000">
                  <a:srgbClr val="ffff66"/>
                </a:gs>
                <a:gs pos="100000">
                  <a:srgbClr val="7676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Arial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1066680" y="1079640"/>
              <a:ext cx="3733920" cy="90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Four Pilla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1111320" y="3733920"/>
              <a:ext cx="3645000" cy="3045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9"/>
          <p:cNvSpPr/>
          <p:nvPr/>
        </p:nvSpPr>
        <p:spPr>
          <a:xfrm>
            <a:off x="1143000" y="4114800"/>
            <a:ext cx="13716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par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5702400" y="4114800"/>
            <a:ext cx="11095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540160" y="4114800"/>
            <a:ext cx="14364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079640" y="4572000"/>
            <a:ext cx="7912080" cy="3682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  <a:ea typeface="Arial"/>
              </a:rPr>
              <a:t>Front 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Citizens interact with Gover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028880" y="6342120"/>
            <a:ext cx="8094600" cy="3682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  <a:ea typeface="Arial"/>
              </a:rPr>
              <a:t>Back 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Working within Gover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1066680" y="4997520"/>
            <a:ext cx="7924320" cy="1251000"/>
            <a:chOff x="1066680" y="4997520"/>
            <a:chExt cx="7924320" cy="1251000"/>
          </a:xfrm>
        </p:grpSpPr>
        <p:grpSp>
          <p:nvGrpSpPr>
            <p:cNvPr id="284" name="Group 15"/>
            <p:cNvGrpSpPr/>
            <p:nvPr/>
          </p:nvGrpSpPr>
          <p:grpSpPr>
            <a:xfrm>
              <a:off x="1066680" y="4997520"/>
              <a:ext cx="7924320" cy="1251000"/>
              <a:chOff x="1066680" y="4997520"/>
              <a:chExt cx="7924320" cy="1251000"/>
            </a:xfrm>
          </p:grpSpPr>
          <p:pic>
            <p:nvPicPr>
              <p:cNvPr id="285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34600" y="5010120"/>
                <a:ext cx="1663920" cy="12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17" descr="DSC02018"/>
              <p:cNvPicPr/>
              <p:nvPr/>
            </p:nvPicPr>
            <p:blipFill>
              <a:blip r:embed="rId5">
                <a:lum bright="6000"/>
              </a:blip>
              <a:stretch/>
            </p:blipFill>
            <p:spPr>
              <a:xfrm>
                <a:off x="5938560" y="5035680"/>
                <a:ext cx="1626120" cy="117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8" descr="kiosk"/>
              <p:cNvPicPr/>
              <p:nvPr/>
            </p:nvPicPr>
            <p:blipFill>
              <a:blip r:embed="rId6"/>
              <a:stretch/>
            </p:blipFill>
            <p:spPr>
              <a:xfrm>
                <a:off x="4791240" y="5010120"/>
                <a:ext cx="1134000" cy="12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9" descr="DSC02015"/>
              <p:cNvPicPr/>
              <p:nvPr/>
            </p:nvPicPr>
            <p:blipFill>
              <a:blip r:embed="rId7">
                <a:lum bright="18000"/>
              </a:blip>
              <a:stretch/>
            </p:blipFill>
            <p:spPr>
              <a:xfrm>
                <a:off x="7564680" y="5010120"/>
                <a:ext cx="1426320" cy="118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20" descr="eseva_2"/>
              <p:cNvPicPr/>
              <p:nvPr/>
            </p:nvPicPr>
            <p:blipFill>
              <a:blip r:embed="rId8">
                <a:alphaModFix amt="50000"/>
              </a:blip>
              <a:stretch/>
            </p:blipFill>
            <p:spPr>
              <a:xfrm>
                <a:off x="1066680" y="4997520"/>
                <a:ext cx="14263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0" name="Picture 21" descr="untitled"/>
            <p:cNvPicPr/>
            <p:nvPr/>
          </p:nvPicPr>
          <p:blipFill>
            <a:blip r:embed="rId9">
              <a:lum bright="24000"/>
            </a:blip>
            <a:stretch/>
          </p:blipFill>
          <p:spPr>
            <a:xfrm>
              <a:off x="3998880" y="5010120"/>
              <a:ext cx="8056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22"/>
          <p:cNvSpPr/>
          <p:nvPr/>
        </p:nvSpPr>
        <p:spPr>
          <a:xfrm>
            <a:off x="4876920" y="1066680"/>
            <a:ext cx="3809880" cy="2971800"/>
          </a:xfrm>
          <a:prstGeom prst="rect">
            <a:avLst/>
          </a:prstGeom>
          <a:solidFill>
            <a:srgbClr val="e6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81480" y="1219320"/>
            <a:ext cx="3200400" cy="380880"/>
          </a:xfrm>
          <a:prstGeom prst="rect">
            <a:avLst/>
          </a:prstGeom>
          <a:solidFill>
            <a:srgbClr val="e6f8a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4 Questions</a:t>
            </a:r>
            <a:r>
              <a:rPr b="0" lang="en-US" sz="15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 to be addressed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Slide Number Placeholder 3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D15C-BF9B-4B5F-BC7B-C188352830A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5429520" y="172080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HAT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do we want to </a:t>
            </a:r>
            <a:r>
              <a:rPr b="0" i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Achieve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4965840" y="180324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497844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7"/>
          <p:cNvSpPr/>
          <p:nvPr/>
        </p:nvSpPr>
        <p:spPr>
          <a:xfrm>
            <a:off x="4978440" y="2971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4978440" y="35053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5455440" y="23684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HOW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do we want to </a:t>
            </a:r>
            <a:r>
              <a:rPr b="0" i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Implement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5415120" y="290844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WITH WHAT 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resources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5401440" y="343548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HO </a:t>
            </a:r>
            <a:r>
              <a:rPr b="0" lang="en-US" sz="1600" spc="-1" strike="noStrike">
                <a:solidFill>
                  <a:srgbClr val="3b812f"/>
                </a:solidFill>
                <a:latin typeface="Verdana"/>
                <a:ea typeface="Arial"/>
              </a:rPr>
              <a:t>will</a:t>
            </a:r>
            <a:r>
              <a:rPr b="0" lang="en-US" sz="1400" spc="-1" strike="noStrike">
                <a:solidFill>
                  <a:srgbClr val="3b812f"/>
                </a:solidFill>
                <a:latin typeface="Verdana"/>
                <a:ea typeface="Arial"/>
              </a:rPr>
              <a:t> be responsible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380880" y="76320"/>
            <a:ext cx="8305920" cy="3808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58b"/>
                </a:solidFill>
                <a:latin typeface="Arial"/>
                <a:ea typeface="Arial"/>
              </a:rPr>
              <a:t>Government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 rot="16200000">
            <a:off x="-2323800" y="3390840"/>
            <a:ext cx="5867280" cy="457200"/>
          </a:xfrm>
          <a:prstGeom prst="rect">
            <a:avLst/>
          </a:prstGeom>
          <a:solidFill>
            <a:srgbClr val="f2f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  <a:ea typeface="Arial"/>
              </a:rPr>
              <a:t>Citizens | Businesses  | Government  |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4013280" y="4114800"/>
            <a:ext cx="165096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ponsiven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990720" y="533520"/>
            <a:ext cx="7696080" cy="457200"/>
          </a:xfrm>
          <a:prstGeom prst="rect">
            <a:avLst/>
          </a:prstGeom>
          <a:solidFill>
            <a:srgbClr val="f2f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  <a:ea typeface="Arial"/>
              </a:rPr>
              <a:t>e-Government         e-Governance         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6858000" y="4114800"/>
            <a:ext cx="1109520" cy="276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icip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8013600" y="4114800"/>
            <a:ext cx="110988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5:57:49Z</dcterms:created>
  <dc:creator>Piyush Gupta</dc:creator>
  <dc:description/>
  <dc:language>en-US</dc:language>
  <cp:lastModifiedBy>NIELIT6</cp:lastModifiedBy>
  <dcterms:modified xsi:type="dcterms:W3CDTF">2013-09-25T03:39:25Z</dcterms:modified>
  <cp:revision>277</cp:revision>
  <dc:subject/>
  <dc:title>Change Management &amp; Capacity Building   - Pillars of e-Government Projects</dc:title>
</cp:coreProperties>
</file>